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1.png" ContentType="image/png"/>
  <Override PartName="/ppt/media/image19.jpeg" ContentType="image/jpeg"/>
  <Override PartName="/ppt/media/image42.jpeg" ContentType="image/jpeg"/>
  <Override PartName="/ppt/media/image26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25.wmf" ContentType="image/x-wmf"/>
  <Override PartName="/ppt/media/image8.jpeg" ContentType="image/jpeg"/>
  <Override PartName="/ppt/media/image43.jpeg" ContentType="image/jpeg"/>
  <Override PartName="/ppt/media/image5.png" ContentType="image/png"/>
  <Override PartName="/ppt/media/image30.wmf" ContentType="image/x-wmf"/>
  <Override PartName="/ppt/media/image6.jpeg" ContentType="image/jpeg"/>
  <Override PartName="/ppt/media/image32.png" ContentType="image/png"/>
  <Override PartName="/ppt/media/image34.wmf" ContentType="image/x-wmf"/>
  <Override PartName="/ppt/media/image3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37.wmf" ContentType="image/x-wmf"/>
  <Override PartName="/ppt/media/image39.wmf" ContentType="image/x-wmf"/>
  <Override PartName="/ppt/media/image41.png" ContentType="image/png"/>
  <Override PartName="/ppt/media/image40.jpeg" ContentType="image/jpeg"/>
  <Override PartName="/ppt/media/image44.jpeg" ContentType="image/jpeg"/>
  <Override PartName="/ppt/media/image36.wmf" ContentType="image/x-wmf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31.wmf" ContentType="image/x-wmf"/>
  <Override PartName="/ppt/media/image7.jpeg" ContentType="image/jpeg"/>
  <Override PartName="/ppt/media/image23.wmf" ContentType="image/x-wmf"/>
  <Override PartName="/ppt/media/image28.jpeg" ContentType="image/jpeg"/>
  <Override PartName="/ppt/media/image38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F586C9-E1BD-487E-8907-DB7B21E0A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412D81-450B-49AF-A5DB-368BAD28B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444D62-AD21-43C8-8ACE-FED2E48FB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925970-CC14-4A51-865D-89163CC12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9068EF-4829-4F26-827F-EF2EC2369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F24804-88EC-4971-8596-5C5DD6E2B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796BE6-D0DC-4A3A-B593-7089B6F23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BD171B-AC8A-4709-BD03-31001BF2F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734D35-E5A7-4EF9-99DF-EAC3E1748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BEFF54-4518-4BCB-ACA6-42407678A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CA2EF5-032D-4A0C-A15C-DFB7EAF4D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FB2C36-DBEA-4A19-A156-2E4736ADB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4C4506-8145-4AC1-8B34-DF6FEFDAB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BFB3CB-3430-464E-8EA9-438CF0ADC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46B193-CBA6-4F31-A266-8EAC90510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689A97-50A6-4138-98DC-6DF45EBD5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2C4A99-C486-47E5-9EFC-BC7613869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3A4BEB-13D1-4512-B22D-DAF2C2688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B4E620-5EDE-4D80-906F-FC8FD3795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613A49-EAB9-4837-B1BD-A22849FB7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9F422E-0FAD-4E62-B00A-B780B73A8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CC3CFB-475B-4153-A501-C03C9600E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91AB8C-297E-4316-81AC-6A6E59714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E214B0-1451-492A-96FA-B27FC9F59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482666-5BB8-4D56-82B7-8AD50E399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6BD7F-C99D-42D2-ACC1-D844933B93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A96A9-CD7A-477A-B3A3-3241F27F9F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E735D-B65E-4E77-92CB-376C5ECD01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40EB7-84C6-4BB8-8E06-17E26C5184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3D4B-F906-4FDB-A122-C755315164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AA83-E51C-495C-B1A8-9510098AFD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12F4-75B4-4FB9-81DE-2313BFD144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24A9-F47B-483B-9116-E8177F9728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6981-16AC-4A4F-9B7A-352755A1E3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FE46-BB25-4201-962D-04FBE6422C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6721-D4A6-450C-9D5A-A8E6DCE95B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911C5-B350-455B-82A0-14AC73B245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C87C-0B62-4481-8ADE-B42E31FB45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7D79-3901-4E20-B0A6-6BA7013AAF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C4D5-D44B-46AE-8D98-EFE0E70D68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32DB-7E4D-4437-910C-0410AD7F75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2187-C31E-499F-B93F-4315DCD3C1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EB65B-2A04-4191-A8F3-B94751EA42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DD1DF-0B4B-4FE6-931B-12E265B2FC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C11C7-0202-442D-9087-46CAE0731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08C19-EF3D-43F9-B6DC-2BF6ECBC03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EECD6-3A26-4473-B331-ED95BE5EFF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E3D3F-73F0-4B9D-80A2-1792AF9FA5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525DC-CAB0-46CB-87FC-F36582C55C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604D-5AEB-469A-89FB-C0B0194B7F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146A-802A-4F37-BAB5-7B98A53D2F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28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Organis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752E-A26C-43A0-AEC4-E594BE08B8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04920" y="380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Cheminement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7" descr="Capture3"/>
          <p:cNvPicPr/>
          <p:nvPr/>
        </p:nvPicPr>
        <p:blipFill>
          <a:blip r:embed="rId1"/>
          <a:srcRect l="0" t="16987" r="0" b="0"/>
          <a:stretch/>
        </p:blipFill>
        <p:spPr>
          <a:xfrm>
            <a:off x="228600" y="1523880"/>
            <a:ext cx="838188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9B48-3A57-46C5-AE55-ED85A409C4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Organization Chart 3"/>
          <p:cNvGrpSpPr/>
          <p:nvPr/>
        </p:nvGrpSpPr>
        <p:grpSpPr>
          <a:xfrm>
            <a:off x="380880" y="1935000"/>
            <a:ext cx="6172200" cy="3773520"/>
            <a:chOff x="380880" y="1935000"/>
            <a:chExt cx="6172200" cy="3773520"/>
          </a:xfrm>
        </p:grpSpPr>
        <p:sp>
          <p:nvSpPr>
            <p:cNvPr id="205" name="AutoShape 4"/>
            <p:cNvSpPr/>
            <p:nvPr/>
          </p:nvSpPr>
          <p:spPr>
            <a:xfrm>
              <a:off x="380880" y="1935000"/>
              <a:ext cx="6172200" cy="37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_s1029"/>
            <p:cNvCxnSpPr>
              <a:stCxn id="207" idx="1"/>
              <a:endCxn id="208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09" name="_s1031"/>
            <p:cNvCxnSpPr>
              <a:stCxn id="210" idx="3"/>
              <a:endCxn id="208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1" name="_s1032"/>
            <p:cNvCxnSpPr>
              <a:stCxn id="208" idx="0"/>
              <a:endCxn id="212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3" name="_s1034"/>
            <p:cNvCxnSpPr>
              <a:stCxn id="214" idx="0"/>
              <a:endCxn id="215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6" name="_s1035"/>
            <p:cNvCxnSpPr>
              <a:stCxn id="212" idx="0"/>
              <a:endCxn id="215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15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Directeur</a:t>
              </a:r>
              <a:br>
                <a:rPr sz="2200"/>
              </a:b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 laboratoi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Biologis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 respons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Responsable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 qualité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en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5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 surveil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6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Directeur d’hô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8E90-0424-45FE-88B0-434B167406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igence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responsabilité et l’autorité pour supervis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e directement aux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j0240719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F61E-D72D-442C-9FB1-052AC0402C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u 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ur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oir tous les regis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et coordonner l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rcher les défi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former les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F9D9-7A68-4B60-A8DD-B07E217541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approches varien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elon la situation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nombreux facteur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luencent le poin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d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lure tous les élément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ut être mis en oeuv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r 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5" descr="MCBD07022_0000[1]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FD54-83DC-4326-855F-6E3E46E92C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MCj00905430000[1]"/>
          <p:cNvPicPr/>
          <p:nvPr/>
        </p:nvPicPr>
        <p:blipFill>
          <a:blip r:embed="rId1"/>
          <a:srcRect l="45571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ardez à l’esp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, soyez trans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échéanc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ais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objectif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 et mes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priorités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er par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5452-B748-44F7-B365-462319A5A0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2666880"/>
            <a:ext cx="3733920" cy="2880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5960" y="13716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r les carences en utilisant une check-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e list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tâ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des priorité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bord ce qui peu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être résolu rapid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ce qui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ra le plus d’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duire une analyse des carences (Gap analysis)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4876920" y="21337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Analyse des carence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BA8A-A956-443F-8EC8-ACC33DB849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 des ca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oblèmes couramment identifié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mande d’analy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’échantil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iveau de formation du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l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ô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ocessus analy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nregistrement et compte-rend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réactifs et de l’équipement demande 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MCj03983870000[1]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FFCF-ABC7-468A-9E8E-F69676E5F1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daction du plan qui devrait contenir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e qui devrait être f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i sera respons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and (calendr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essource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points de réfé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304920" y="5105520"/>
            <a:ext cx="868680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doit être disponible pour tout le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13A9-1357-4F12-8F2B-5BEA278590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MCj04325520000[1]"/>
          <p:cNvPicPr/>
          <p:nvPr/>
        </p:nvPicPr>
        <p:blipFill>
          <a:blip r:embed="rId1"/>
          <a:stretch/>
        </p:blipFill>
        <p:spPr>
          <a:xfrm>
            <a:off x="5867280" y="3886200"/>
            <a:ext cx="3124440" cy="33526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engager à term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parer une mise en oeuvre par ét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s ressources sont dispon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un 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chacun connait s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uis al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3124080" y="6156360"/>
            <a:ext cx="350532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commen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89AF-75C5-4B28-ABF8-951414AE54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 les participants seront en mesure d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crire les éléments organisationnels nécessaires à un système de gestion de la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scuter  les rôles et les responsabilités dans un système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e processus de conception, de mise en œuvre, de maintenance et d’amélioration du système qualité au laborato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’intérêt d’un 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A07E-54C8-495E-A219-CB6BB662B8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19_gnatt_chart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85AB-2F17-400A-A564-B087586373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urnir des res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igences financière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soin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sonnel supplémenta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étences, formation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stallations, équipement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, ordin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j0195384"/>
          <p:cNvPicPr/>
          <p:nvPr/>
        </p:nvPicPr>
        <p:blipFill>
          <a:blip r:embed="rId3"/>
          <a:stretch/>
        </p:blipFill>
        <p:spPr>
          <a:xfrm>
            <a:off x="5867280" y="4419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EFAF-C1E1-4ADE-B04A-A721ED6942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6" descr="j0386161"/>
          <p:cNvPicPr/>
          <p:nvPr/>
        </p:nvPicPr>
        <p:blipFill>
          <a:blip r:embed="rId1"/>
          <a:stretch/>
        </p:blipFill>
        <p:spPr>
          <a:xfrm>
            <a:off x="6915240" y="1905120"/>
            <a:ext cx="2228760" cy="335268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conform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igner l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indicateu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r un système de 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d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2" descr="MCj02120510000[1]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0B74-B17C-4114-80B3-DF8C6AA44D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meeting_asia_1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FBED-2B40-4DED-BDFE-3E3445FBBB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685800" y="457200"/>
            <a:ext cx="6705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e manuel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cument qui décrit entièrement le système de gestion de la qualité d’une organis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pe essenti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onsabilité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0" descr="manuals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6C46-3BAC-48CB-A535-D5BC353965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unique l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rt de cadre pour répondre aux exigences du 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montre l’engagement de la direction dans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4B43-1020-4215-A1CB-4BA6FEA670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1" descr="MCPE07250_0000[1]"/>
          <p:cNvPicPr/>
          <p:nvPr/>
        </p:nvPicPr>
        <p:blipFill>
          <a:blip r:embed="rId1"/>
          <a:stretch/>
        </p:blipFill>
        <p:spPr>
          <a:xfrm>
            <a:off x="4419720" y="342900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nir à jour le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unique les lignes de condu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oit être approuvé par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quiert une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se j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MCj04099450000[1]"/>
          <p:cNvPicPr/>
          <p:nvPr/>
        </p:nvPicPr>
        <p:blipFill>
          <a:blip r:embed="rId2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CA6C-5354-4F3E-8F1F-CC522D2FAE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ne mise en oeuvre réussie requi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l’engagement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comprendre les bénéfices d’un système de gestion de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engager le personnel à tous les nive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ayer d’améliorer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nuel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des attent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2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5B77-0656-4829-9FD2-7B60EB4B39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0" descr="MCDD01419_0000[1]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23"/>
          <p:cNvGrpSpPr/>
          <p:nvPr/>
        </p:nvGrpSpPr>
        <p:grpSpPr>
          <a:xfrm>
            <a:off x="4800600" y="2133720"/>
            <a:ext cx="4800600" cy="4390920"/>
            <a:chOff x="4800600" y="2133720"/>
            <a:chExt cx="4800600" cy="4390920"/>
          </a:xfrm>
        </p:grpSpPr>
        <p:sp>
          <p:nvSpPr>
            <p:cNvPr id="317" name="AutoShape 22"/>
            <p:cNvSpPr/>
            <p:nvPr/>
          </p:nvSpPr>
          <p:spPr>
            <a:xfrm>
              <a:off x="4800600" y="2133720"/>
              <a:ext cx="4800600" cy="43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195610"/>
            <p:cNvSpPr/>
            <p:nvPr/>
          </p:nvSpPr>
          <p:spPr>
            <a:xfrm>
              <a:off x="6339600" y="2752200"/>
              <a:ext cx="1722960" cy="2397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195611"/>
            <p:cNvSpPr/>
            <p:nvPr/>
          </p:nvSpPr>
          <p:spPr>
            <a:xfrm rot="7200000">
              <a:off x="6238080" y="3655800"/>
              <a:ext cx="2397600" cy="17233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195613"/>
            <p:cNvSpPr/>
            <p:nvPr/>
          </p:nvSpPr>
          <p:spPr>
            <a:xfrm rot="14400000">
              <a:off x="5767200" y="3658680"/>
              <a:ext cx="2397600" cy="17229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Picture 34" descr="bd20208_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36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38"/>
          <p:cNvSpPr/>
          <p:nvPr/>
        </p:nvSpPr>
        <p:spPr>
          <a:xfrm>
            <a:off x="152280" y="533520"/>
            <a:ext cx="381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38FE-A6F7-4354-9541-38754A5B4D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ssigner la responsabilité de la mise en pl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llouer des ressourc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velopper et distribuer un manuel qualité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mencer la mise en place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trôler la conformité à la politique qualité et aux exigences du système de gestion de la quali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0CE6-45A7-42F0-91B6-5D4DBDD46C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CC3C-74FC-450F-B570-9DD06111C8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8" descr="MCj03963580000[1]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appelez v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Qualité n’est pas une science, c’est une manière de pen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temps investi aujourd’hui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ermettra d’obten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résultats de qualit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efficacité cert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satisfaction personnelle et professionnelle 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reconnaissance de vos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BD33-D9DD-44CD-B236-354D418F84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i est responsable de la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uniocular_mic_cdc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Chacun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D688-E55F-4E33-BF2D-4C8394838E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638320" y="1904760"/>
            <a:ext cx="3505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65" descr="bulles_def"/>
          <p:cNvPicPr/>
          <p:nvPr/>
        </p:nvPicPr>
        <p:blipFill>
          <a:blip r:embed="rId1"/>
          <a:stretch/>
        </p:blipFill>
        <p:spPr>
          <a:xfrm>
            <a:off x="380880" y="1066680"/>
            <a:ext cx="486756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BEEB-2A20-4544-9B11-20191FD61C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9"/>
          <p:cNvGrpSpPr/>
          <p:nvPr/>
        </p:nvGrpSpPr>
        <p:grpSpPr>
          <a:xfrm>
            <a:off x="3657600" y="3581280"/>
            <a:ext cx="3962520" cy="2079360"/>
            <a:chOff x="3657600" y="3581280"/>
            <a:chExt cx="3962520" cy="2079360"/>
          </a:xfrm>
        </p:grpSpPr>
        <p:sp>
          <p:nvSpPr>
            <p:cNvPr id="140" name="AutoShape 18"/>
            <p:cNvSpPr/>
            <p:nvPr/>
          </p:nvSpPr>
          <p:spPr>
            <a:xfrm>
              <a:off x="3657600" y="3581280"/>
              <a:ext cx="39625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_s7194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7193"/>
            <p:cNvCxnSpPr>
              <a:stCxn id="145" idx="0"/>
              <a:endCxn id="14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" name="_s7192"/>
            <p:cNvCxnSpPr>
              <a:stCxn id="147" idx="0"/>
              <a:endCxn id="14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ssentiel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124080" y="12952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gagement pour une gestion soigneuse du systè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structure organisée conçue pour atteindre les objectifs de qual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MPj04017350000[1]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E2C2-74F9-49E1-8805-9739C2A28A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ise en oe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ocessu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de pla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Contrôl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et améli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2"/>
          <p:cNvSpPr/>
          <p:nvPr/>
        </p:nvSpPr>
        <p:spPr>
          <a:xfrm rot="5400000">
            <a:off x="1218600" y="2286000"/>
            <a:ext cx="1523880" cy="7621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3"/>
          <p:cNvSpPr/>
          <p:nvPr/>
        </p:nvSpPr>
        <p:spPr>
          <a:xfrm rot="10800000">
            <a:off x="4114800" y="2743200"/>
            <a:ext cx="914400" cy="9907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4"/>
          <p:cNvSpPr/>
          <p:nvPr/>
        </p:nvSpPr>
        <p:spPr>
          <a:xfrm rot="5400000">
            <a:off x="6858000" y="2514600"/>
            <a:ext cx="1981440" cy="91440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1"/>
          <p:cNvGrpSpPr/>
          <p:nvPr/>
        </p:nvGrpSpPr>
        <p:grpSpPr>
          <a:xfrm>
            <a:off x="685800" y="3505320"/>
            <a:ext cx="2590920" cy="2361240"/>
            <a:chOff x="685800" y="3505320"/>
            <a:chExt cx="2590920" cy="2361240"/>
          </a:xfrm>
        </p:grpSpPr>
        <p:sp>
          <p:nvSpPr>
            <p:cNvPr id="160" name="AutoShape 30"/>
            <p:cNvSpPr/>
            <p:nvPr/>
          </p:nvSpPr>
          <p:spPr>
            <a:xfrm>
              <a:off x="685800" y="3505320"/>
              <a:ext cx="2590920" cy="23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" name="_s8230"/>
            <p:cNvCxnSpPr>
              <a:stCxn id="162" idx="0"/>
              <a:endCxn id="163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8229"/>
            <p:cNvCxnSpPr>
              <a:stCxn id="165" idx="0"/>
              <a:endCxn id="163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8228"/>
            <p:cNvCxnSpPr>
              <a:stCxn id="167" idx="0"/>
              <a:endCxn id="163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3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Direction, Rôles de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1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Structur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 organis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3"/>
          <p:cNvSpPr/>
          <p:nvPr/>
        </p:nvSpPr>
        <p:spPr>
          <a:xfrm rot="5400000">
            <a:off x="5520960" y="1946160"/>
            <a:ext cx="838080" cy="75564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4"/>
          <p:cNvSpPr/>
          <p:nvPr/>
        </p:nvSpPr>
        <p:spPr>
          <a:xfrm rot="5400000">
            <a:off x="4495680" y="4495680"/>
            <a:ext cx="1143000" cy="175248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A63D-0D3F-4EEE-B72D-862AC981EB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ptitude à diri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exerçant un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torité responsab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motivan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 donnant une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influençant e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courageant 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rsonnel pour d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onnes perform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6" descr="10031_lores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9A8F-0A39-4FBF-82B2-D7940DA53E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es dirige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se en oeuvre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mélioration continu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u système de gestion de la qualité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cumenter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uniquer à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out le personnel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nir un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9" descr="a_19"/>
          <p:cNvPicPr/>
          <p:nvPr/>
        </p:nvPicPr>
        <p:blipFill>
          <a:blip r:embed="rId1"/>
          <a:stretch/>
        </p:blipFill>
        <p:spPr>
          <a:xfrm>
            <a:off x="3733920" y="2666880"/>
            <a:ext cx="50292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E630-0232-4FFC-B7A2-D41B6C226F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gagement de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Black"/>
              </a:rPr>
              <a:t>Ministère de la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5181480" y="1219320"/>
            <a:ext cx="3276720" cy="82548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Gestion financ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0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192" name="PubOvalCallout"/>
          <p:cNvSpPr/>
          <p:nvPr/>
        </p:nvSpPr>
        <p:spPr>
          <a:xfrm rot="16200000">
            <a:off x="4038480" y="3885840"/>
            <a:ext cx="2057400" cy="3429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unions du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E063-5B21-4CD0-95E2-B8FF851F6F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Organisationne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09480" y="1447920"/>
            <a:ext cx="77724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e structure de travail qui assure un flux suffisant dans toutes les partie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igner rôles et responsabil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organi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igner un responsabl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llouer des ressources suffi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3:01:43Z</dcterms:modified>
  <cp:revision>132</cp:revision>
  <dc:subject/>
  <dc:title>Slide 1</dc:title>
</cp:coreProperties>
</file>